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FE2B-0906-42D0-8F4E-4B7BBB53E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A3FD-3E9C-4DBF-866B-80C810CEF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6FDB-098E-4931-ACA4-15032D2E5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5D324-A43D-4821-8F27-988F8EF9C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1A67D-DBD1-4B18-9944-8A81A145D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4BA1A-EC3B-48BE-B8CE-1D0914E1A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34F9D-14EC-4955-AC19-8BA4572A7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48FF2-4F12-44C5-9A6C-BC9D5CB79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FF8CB-FA6A-4352-A32F-A6FC3F54E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E8BD8-25DE-42ED-94B7-CF8F05A98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A4B7F-FA87-4D76-B499-7EF953072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D332A-60AD-4718-880B-13259F11F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BEF58-2486-434D-8402-E492D85E5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80FF5-57A8-46E0-8CF9-A08A05769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2FBE8-A7A2-4E36-89BA-22D7F7F97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2489-8171-4D56-8556-F8FFFA5B3B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ions for Your Electronic Portfolio</a:t>
            </a:r>
            <a:endParaRPr b="0" lang="en-US" sz="3200" spc="-1" strike="noStrike">
              <a:solidFill>
                <a:srgbClr val="000000"/>
              </a:solidFill>
              <a:latin typeface="Arial"/>
            </a:endParaRPr>
          </a:p>
        </p:txBody>
      </p:sp>
      <p:sp>
        <p:nvSpPr>
          <p:cNvPr id="49" name="PlaceHolder 2"/>
          <p:cNvSpPr>
            <a:spLocks noGrp="1"/>
          </p:cNvSpPr>
          <p:nvPr>
            <p:ph/>
          </p:nvPr>
        </p:nvSpPr>
        <p:spPr>
          <a:xfrm>
            <a:off x="457200" y="1523880"/>
            <a:ext cx="8229600" cy="4724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he Intel</a:t>
            </a:r>
            <a:r>
              <a:rPr b="0" lang="en-US" sz="2000" spc="-1" strike="noStrike" baseline="30000">
                <a:solidFill>
                  <a:srgbClr val="000000"/>
                </a:solidFill>
                <a:latin typeface="Verdana"/>
              </a:rPr>
              <a:t>®</a:t>
            </a:r>
            <a:r>
              <a:rPr b="0" lang="en-US" sz="2000" spc="-1" strike="noStrike">
                <a:solidFill>
                  <a:srgbClr val="000000"/>
                </a:solidFill>
                <a:latin typeface="Verdana"/>
              </a:rPr>
              <a:t> Education </a:t>
            </a:r>
            <a:r>
              <a:rPr b="0" i="1" lang="en-US" sz="2000" spc="-1" strike="noStrike">
                <a:solidFill>
                  <a:srgbClr val="000000"/>
                </a:solidFill>
                <a:latin typeface="Verdana"/>
              </a:rPr>
              <a:t>Help Guide</a:t>
            </a:r>
            <a:r>
              <a:rPr b="0" lang="en-US" sz="2000" spc="-1" strike="noStrike">
                <a:solidFill>
                  <a:srgbClr val="000000"/>
                </a:solidFill>
                <a:latin typeface="Verdana"/>
              </a:rPr>
              <a:t> if you need assistance i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ing any technology skills identified be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he introductory slide, insert the title of your unit, your name, subject, and grade level.</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he next slide, </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yperlink to your documents from the slide  (Multimedia Skill 7.9), or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you will be moving your portfolio to another computer after linking, embed the files. (Multimedia Skill 7.11 and 7.12)</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Note:</a:t>
            </a:r>
            <a:r>
              <a:rPr b="0" lang="en-US" sz="1800" spc="-1" strike="noStrike">
                <a:solidFill>
                  <a:srgbClr val="000000"/>
                </a:solidFill>
                <a:latin typeface="Verdana"/>
              </a:rPr>
              <a:t> Embedding files may greatly increase the file size of this presentation</a:t>
            </a:r>
            <a:endParaRPr b="0" lang="en-US" sz="1800" spc="-1" strike="noStrike">
              <a:solidFill>
                <a:srgbClr val="000000"/>
              </a:solidFill>
              <a:latin typeface="Arial"/>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 this slide when you are done. </a:t>
            </a:r>
            <a:r>
              <a:rPr b="0" lang="en-US" sz="1800" spc="-1" strike="noStrike">
                <a:solidFill>
                  <a:srgbClr val="000000"/>
                </a:solidFill>
                <a:latin typeface="Verdana"/>
              </a:rPr>
              <a:t>(Multimedia Skill 3.3)</a:t>
            </a:r>
            <a:endParaRPr b="0" lang="en-US" sz="18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ve this presentation at the top level of your Unit Portfolio folder.</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oals for the Cours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comprehensible PBL lesson that actively engages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opportunities for students to direct their own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and become comfortable with new technologies that I can share with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for My Student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come independent and investigative learn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joy the process of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 for Feedback</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my lesson student-centered enou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orksheets where students answer questions, both recall and higher order thinking skills , appropriate or should I make all student handouts graphic organizers?  And how do I do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it Plan Portfolio Presentation</a:t>
            </a:r>
            <a:br>
              <a:rPr sz="4000"/>
            </a:br>
            <a:br>
              <a:rPr sz="4000"/>
            </a:br>
            <a:r>
              <a:rPr b="0" lang="en-US" sz="4000" spc="-1" strike="noStrike">
                <a:solidFill>
                  <a:srgbClr val="000000"/>
                </a:solidFill>
                <a:latin typeface="Verdana"/>
              </a:rPr>
              <a:t>Follow the Drinking Gourd</a:t>
            </a:r>
            <a:endParaRPr b="0" lang="en-US" sz="4000" spc="-1" strike="noStrike">
              <a:solidFill>
                <a:srgbClr val="000000"/>
              </a:solidFill>
              <a:latin typeface="Arial"/>
            </a:endParaRPr>
          </a:p>
        </p:txBody>
      </p:sp>
      <p:sp>
        <p:nvSpPr>
          <p:cNvPr id="51" name="PlaceHolder 2"/>
          <p:cNvSpPr>
            <a:spLocks noGrp="1"/>
          </p:cNvSpPr>
          <p:nvPr>
            <p:ph type="subTitle"/>
          </p:nvPr>
        </p:nvSpPr>
        <p:spPr>
          <a:xfrm>
            <a:off x="1371600" y="4572000"/>
            <a:ext cx="6400800" cy="12160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Wrigh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Studies</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de 5</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Summary</a:t>
            </a:r>
            <a:endParaRPr b="0" lang="en-US" sz="4400" spc="-1" strike="noStrike">
              <a:solidFill>
                <a:srgbClr val="000000"/>
              </a:solidFill>
              <a:latin typeface="Arial"/>
            </a:endParaRPr>
          </a:p>
        </p:txBody>
      </p:sp>
      <p:sp>
        <p:nvSpPr>
          <p:cNvPr id="53"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ill investigate the lives of slaves to be able to tell why slaves were willing to risk much to escape.  They will watch 2 video clips, one on the life of slaves and one on the Underground Railroad.  They will visit a website that takes them through an escapee slave’s experiences on the Underground Railroad.  As they make this journey, they will write about experiences, feelings, impressions, etc.    The final product will be a student-written and performed play in which they will assume the roles of slaves and discuss their lives and their escape on the Underground Railro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iculum Framing Questions</a:t>
            </a:r>
            <a:endParaRPr b="0" lang="en-US" sz="4400" spc="-1" strike="noStrike">
              <a:solidFill>
                <a:srgbClr val="000000"/>
              </a:solidFill>
              <a:latin typeface="Arial"/>
            </a:endParaRPr>
          </a:p>
        </p:txBody>
      </p:sp>
      <p:sp>
        <p:nvSpPr>
          <p:cNvPr id="55"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sential Question</a:t>
            </a:r>
            <a:endParaRPr b="0" lang="en-US" sz="2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2400" spc="-1" strike="noStrike">
                <a:solidFill>
                  <a:srgbClr val="000000"/>
                </a:solidFill>
                <a:latin typeface="Verdana"/>
              </a:rPr>
              <a:t>What is the price of freedom</a:t>
            </a:r>
            <a:r>
              <a:rPr b="0" lang="en-US" sz="1600" spc="-1" strike="noStrike">
                <a:solidFill>
                  <a:srgbClr val="000000"/>
                </a:solidFill>
                <a:latin typeface="Verdana"/>
              </a:rPr>
              <a:t>?</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t Quest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f you were enslaved, what would you be willing to give up to gain your freed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ere the risks involved in escaping worth i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ent Ques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Why were slaves so anxious to escap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ho were some of the people who helped slaves escap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re there places and people today in a similar situation? </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a:t>
            </a:r>
            <a:r>
              <a:rPr b="0" lang="en-US" sz="4400" spc="-1" strike="noStrike" baseline="30000">
                <a:solidFill>
                  <a:srgbClr val="000000"/>
                </a:solidFill>
                <a:latin typeface="Arial"/>
              </a:rPr>
              <a:t>st</a:t>
            </a:r>
            <a:r>
              <a:rPr b="0" lang="en-US" sz="4400" spc="-1" strike="noStrike">
                <a:solidFill>
                  <a:srgbClr val="000000"/>
                </a:solidFill>
                <a:latin typeface="Arial"/>
              </a:rPr>
              <a:t> Century Skills</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ity and Innovation-writing a pla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Thinking and Problem Solving-working through activities requiring decision-mak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and Collaboration-working together on activities and the pl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T Literacy-using technology to research and evaluat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ve and Self-Direction-defining and completing tasks, utilizing time efficien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nd Cross-Cultural Skills-working appropriately with 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be able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life of a slave and relate the desire for 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what the Underground Railroad was, how it worked, and who some of the important people involved w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 current situations involving enslaved people desiring esc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s</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2KWLs-slavery and Underground Railro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Checklist, Graphic organizers, Question worksheets, Scavenger hunt, Refle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Play (rubric),  student portfolio containing graphic organizers, scavenger hunt, and ref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uging Student Needs Assessment</a:t>
            </a:r>
            <a:endParaRPr b="0" lang="en-US" sz="4000" spc="-1" strike="noStrike">
              <a:solidFill>
                <a:srgbClr val="000000"/>
              </a:solidFill>
              <a:latin typeface="Arial"/>
            </a:endParaRPr>
          </a:p>
        </p:txBody>
      </p:sp>
      <p:sp>
        <p:nvSpPr>
          <p:cNvPr id="63" name=""/>
          <p:cNvSpPr txBox="1"/>
          <p:nvPr/>
        </p:nvSpPr>
        <p:spPr>
          <a:xfrm>
            <a:off x="0" y="1295280"/>
            <a:ext cx="8229600" cy="55627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 of the Assessment</a:t>
            </a: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2400" spc="-1" strike="noStrike">
                <a:solidFill>
                  <a:srgbClr val="000000"/>
                </a:solidFill>
                <a:latin typeface="Arial"/>
              </a:rPr>
              <a:t>To gather information about what my students already know and what they want to know about slavery and the Underground Railroa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I want to learn from my student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I want to know what they know about the lives of slaves that would cause them to risk their lives in order to escape and what knowledge they have of the Underground Railroa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ve I tried to promote higher-order thinking skill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I ask students how they would feel if they were treated as slaves and what would finally cause them to run a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380880" y="838080"/>
            <a:ext cx="8077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the assessment information help me and my students plan for upcoming activities in the un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Misconceptions need to be addressed.  Activities need to be designed to ensure that correct information is received and student questions answered.  Teams will be assigned based on ability levels and levels of understan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at feedback or additional ideas do I ne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and when do you suggest that students fill in the L section…as they find information or at the end of the un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4T02:09:36Z</dcterms:created>
  <dc:creator>slshottx</dc:creator>
  <dc:description/>
  <dc:language>en-US</dc:language>
  <cp:lastModifiedBy>Bob Wright</cp:lastModifiedBy>
  <dcterms:modified xsi:type="dcterms:W3CDTF">2009-04-07T17:00:08Z</dcterms:modified>
  <cp:revision>24</cp:revision>
  <dc:subject/>
  <dc:title>Unit Plan Portfolio</dc:title>
</cp:coreProperties>
</file>